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1FC-57C8-4930-B404-7C9A2E4B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57C-6935-4CB6-B193-7E031C2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10B-09FB-4BEE-AA26-0FFAB00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21B-60AD-49E9-9BD7-C4D97D4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DB11-32F8-4F62-85CE-131993D1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0C08-30A8-4C76-BB52-EB0EF27A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D4D-576E-4AC7-A4F7-03868D3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C425-1110-48A4-87C9-87CC06FA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B1CF-B438-4DCB-8573-BB2BA9A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4E8D-0AEB-4F13-9443-B1AFF56B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E204-D821-4F16-8EA6-82E5247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37D-7063-47B6-9737-BAA1C2C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01CA-F530-459F-A82C-D59008D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0613-3465-41C2-A54B-B82BB19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5ADB-FE28-4F9F-8B20-F8B91E1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56F-0E03-48C5-926B-2C89B028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C9E-EE16-41AA-9AE1-803C4D8B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77C-0739-4D57-85DA-AA38903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B35-202E-44E3-9C24-85C7553C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7C7-3A3F-406B-A890-F0864BE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C64-88BD-4296-8A72-7BED68C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C47-B204-4140-8203-F210FDF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4FE-111D-4F6A-BCAB-A3595C1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BE1-ED16-4520-8040-DBFB276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33F0-96EB-44ED-88B9-57EB89EE9F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AB6-8665-4569-8712-CD3538A748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G-RSM CVS System at ECP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ki Kanam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ps Institution of Ocea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Regional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, jgrd, cigrd, cj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 has to be a product of integer powers of 2, 3, and 5. On IBM, integer power for 3 cannot be more than 2. jgrd has to be an odd number. cigrd and jgrd are coarse resolution regional file paramters for cr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OJ, RTRUTH, RORIENT, RDELX, RDELY, RCENLAT, RCENLON, RLFTGRD, RBTM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bs/etc/prmap to choose a dom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Utility Programs in libs/et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returns date of sigma and surface f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_date_grib: change the date in grib files (r_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ap: creates ctl file for GrADS from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ean: creates average of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dt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d: returns julian day 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map: used for choosing the domain. reads igrd and jgrd in rsm/define.h and domain paramters in rsm/rsim script and creates prmap.ctl which is opened in GrADs for displ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the data server at E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1 (NCEP/NCAR Reanalysis): r1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2 (NCEP/DOE Reanalysis): r2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sst.grib: sfcanl/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ice.grib: sfcanl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ftp dataman@tsuzumi.ucsd.edu (password: data_e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 CVS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and Fortran compilers required (we usually use portland group compilers on Linux machines but Intel should work to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environmental variable CVSROOT (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env CVSROOT :pserver:anoncvs@rokka.ucsd.e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rokka1/kana/cvs-server-root/cps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vs co Install [Note Capital “I”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get “inst” and “install” scripts. “inst” is a wrapper script that calls “inst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 [model version] [topography optio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model version] rsm_frozen, rsm_latest, crsm_frozen, gsm_frozen, gsm_latest, scm_la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topography option] hi (use 30 seconds gtopo30 topography) or lo (use 4minutes topograph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r will ask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model [rsm/gsm/crsm/s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architecture [single/thread/mpi/hybr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 [ecpc/sdsc/ncar, etc] choose ecpc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name [ibmsp/dec/cray/intel/linux, et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olution [e.g. T62L28 r54x55, T62L28 r8167c5487] you have to create resolution definition files in rsm/def if you want to define your ow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cript [rsm/rsim/csim, etc] rsm is for testing purpose (48hours integration). rsim is for downscaling with global files. csim is for crsm (c2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hoose to use “install” scrip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all --model=[rsm/gsm/crsm/scm] --version=[…] --enable-[numerous options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osu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noa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zc : Zhao-Carr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3n: Song-You Hong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sas: S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cmcnv: NCAR CCM3 Zhang McFarlane conv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baseout: post processed basefield output (r_b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CVS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co [modu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update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diff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log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use options such as –r (version), -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Model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 : library, utilities, independent of model resolution but machine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 (or crsm): source codes and binaries, model resolution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: run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: run scripts called by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expscr: templates for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Building the model without install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libs, $ configure-li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edit rsm/def/physics.h, misc.h, debug.h, diag.h to change model options such as KF2 (Kain Fritsch convection) that is not supported by --enable-xxx with installer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onfigure-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uns, $ configure-scr [rsm/rsim/csim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Other things to not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stacksize to unlimited, otherwise rmtn.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20:55:00Z</dcterms:created>
  <dc:creator>KANAMARU Hideki</dc:creator>
  <dc:description/>
  <dc:language>en-US</dc:language>
  <cp:lastModifiedBy>hideki</cp:lastModifiedBy>
  <dcterms:modified xsi:type="dcterms:W3CDTF">2008-03-10T07:21:43Z</dcterms:modified>
  <cp:revision>84</cp:revision>
  <dc:subject/>
  <dc:title>G-RSM System at ECPC</dc:title>
</cp:coreProperties>
</file>